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995B-21F8-45ED-94EA-CD35ABB100C0}"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84C7-DBE1-41F8-A2B8-9E6E87A5E15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0405-E4C1-4A07-B038-85A9E896E3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D890-F868-46B9-9C8B-233271FBB7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834E-4092-4F7B-B2D0-8420CB25EB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C72E-5E77-4DF9-AFDA-FF02561846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D4F9-EB71-4D8C-BF18-66EF5B4D1A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C462-7513-4DFC-ACC1-20432DECC3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DE8A-B99C-45CF-B7C1-E5EEE88D76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651E-6D52-4DC4-A915-B848F189E2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32C3-8AB1-40AE-8F14-084DFD3E71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9FC9-1D4B-4D87-81FE-79122A480E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E2CE-D4A3-4900-82BC-CCD60A4D5D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7AD7-6FCF-409A-8165-CEB8B4FAF8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A59B-63E4-4035-AAC9-A4DDEBEE55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F58F-C52F-42CA-B5FE-87A1719784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0E6D-FA52-4C33-9C0B-835237ACA9B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6CE7-843C-4729-B0EB-6128E22631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D8A2-E1CB-49DF-8475-A132D6F45E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52E1D-9C8D-4C1D-AC0D-8751A6C27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63B2-BC26-42BF-8C93-EDD8154D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CD063-A119-4ED9-9134-F87DF5A83D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02095-7163-4302-83AB-4D3F6D0A76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A8A0F1-F2F1-4317-AA28-5E7772371F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9227F-A1D2-41A6-9EB9-8265079740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6ADF6-04F9-482D-BCA6-C3CEA5261B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916FF-B2CF-49AC-AEF2-92C0725F1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B19C07-E8FC-4E49-B481-85D1B8C10D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2B7793-1CD8-4E75-8AA8-A6B509FE18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D4F7C9-05DF-417D-8B4E-2B9C471CCC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9F38AD-22B3-441A-B20F-334F4DCA26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9D49C-F668-49C2-AB83-D58759ABA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60BD6A-B670-44C6-B421-F0B3276033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6ACB79-C77A-4DDE-B104-F9FE7511F6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1A72D3-992B-45F5-AC8C-924CAD8DAE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22C12C-4FD8-4290-BE7C-71455A54AF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7973B5-2443-4BE8-B3DB-AD8B75B0E5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5D9CCA-F412-4FC5-BC20-0DDFD51776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8C0536-A53C-448F-819D-2E90B195C8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FDA9C6-2A9F-44A2-82B7-03109687BD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089550-B418-4817-9854-AEC17E4D66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A790C3-9220-461D-AEAF-46D470C8BD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9F6D4-22E3-4CBA-B8A1-F3AEEDAC2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1CFB30-DBE2-40CF-992F-BB14C29EEA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DFDEAD-64C4-4E12-95B5-3F60463808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FD0CF4-8DB5-4D26-B5C0-FC370C0E04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5F94F9-1EC6-458C-A63E-6629A7CB15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48BDE2-2175-4129-8C14-6B06BF6D9D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464656-112E-4FB3-9D39-10CCAB5140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CDCA23-C726-4302-8189-C50CC174C2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D9A2DA-5A2A-44A6-A786-9867F4F8D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AF7764-EDAB-4526-9F1A-09D94F5587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15E0BF-6796-418F-BBA4-CC301CB4D4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C1C76-05DD-45B0-BB40-50E376EA3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CD24EA-DB49-40E4-B3E4-C14E6B5AF0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9C8FFD-C543-4B46-A624-2BEE822049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D2390A-0A7F-4BCA-8902-06D8CD7B8C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B20302-EA6C-4E1A-8E67-9C847457C5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82630F-356E-4685-8CFC-D44F2BA7B6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486115-490E-48D0-A73A-B16F87C415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AF0C69-1E91-4D9A-8191-EB27F266EB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1DE1B7-0614-45E5-98C8-C18659F7C5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A2D2F4-01B9-4FA9-AF39-68768A82B4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2F8897-6F1F-4B60-AE60-E2EC8DAE7D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9F058-31BF-432E-8236-F4396BB87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0257D6-654C-4E48-BB7E-DC7A7D086B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752C55-1CF9-40C7-A48B-9B5B96C010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7ACD9D-089A-4A15-9B18-A601DF5D8C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CAD291-F985-46B9-B70C-F7B499EE87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A0D1A5-EF45-42EA-8E16-DDF47E43A9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69A29F5-576C-433B-8949-F2BD52C73F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29975B-40F3-47AE-8E9A-167C378A06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0B0D13-752A-4654-A9A3-FD8D84CE0E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BD99A4-7743-4A10-A274-F824DAE820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85175D-3731-4495-8802-707502D341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8471E-BD8D-418D-8D63-287A12345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FAE70F-51B8-4A33-908C-44E634BD6C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E58C0D-0F6E-4699-9B69-3C73C3110D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D7990E-17E8-4936-94E8-E230A54409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5B6BC6-B9A6-48DE-B735-4D72EA23C9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6F158C-B3B7-49B2-89E2-A43F84E15E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9CFB8F-3A21-413E-A27D-01A3A67D1A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78B17DB-BB87-41F7-8347-B5F42738090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300BDEB-2320-4D92-AD9D-33C973B0B2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295FD8-44BA-4658-A6A4-3DBDC1BD46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863427-661C-43FA-9D0D-CE0550BB67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88B06-FB33-4160-A117-817C26759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695BC4-881A-4B13-8235-04EA280291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F1DD16-6CA0-458E-991E-5FAC724D53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B81926-9E5F-47A0-A4A7-574DD4AB6B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E1BD7C-1BA6-4981-9240-5DE04C2F51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CC1586-9A6F-415E-8AA1-F32B69E972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D5BB49-A6CB-4CE3-BA27-D8AEB07028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DC08A0-9806-4C7B-B823-8C0393F20C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4D52E1-6ACE-489C-AAAB-96132400EB3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F5694D-1638-400E-940B-C0B0B68FAC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9D090-C6E0-4B03-ACCC-EE98F957F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8DD77-6D60-4779-B3E2-C390E75D6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D51C79-AFC6-4A19-B5DD-84365FFC80C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ADC211-41F5-4914-BF88-BB10A99F9B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CCF7AB-6CE5-4E49-A6CE-B039FCDD45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539CAA-06FE-4336-8E18-FDA86DD1C3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753DB8-DBD8-4FA4-892D-926AC93C7B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B57B91-AE16-4750-A6BD-6A9554D428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51408A-320B-4E3A-958E-41B96F770D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CA4178-65C9-4BE0-8565-AD6A4366F1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4FE0B4-AF07-43E1-9F41-F48A7DC3EC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3E37C-1402-4B8C-8BDA-998999E9D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C072BC-98A0-4D4F-B11F-3FEEE1B015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2754AD-6A40-4ECA-A05B-FD9BA9D0C8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DE8655-13E4-4180-A34C-7216CC3A996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E25ED38-E23B-4984-8631-3DD5B691DE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03F2D6-2475-41B1-BC14-D3BCAF1420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F6BF4E-3693-4125-B6E1-EBD7C9E246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4E08F1-4405-4907-BC85-07C2980F34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CB486E-0316-47FF-83DA-CCA3FF16AE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0B417A-AD4E-438A-BA27-D8411B78AB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51B2A3-49C4-40A7-A800-718A6AC2B9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F16F3-28DA-4CC2-B3CC-F4E77520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39D64-CDCE-4166-95F7-3A9A9521F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6DCB49-C0A9-42BC-98C7-61DC426CFC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2E12F0-8ECB-4C2A-8761-981E56240A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1969BE-701C-41F1-8934-8B061326C0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0B48C7-B33E-420B-96FF-3AE7538B6B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E6B00F-D61F-4928-8AAD-E94FBE53711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CA2D13-F9DE-4D84-ACEB-3E82A3C505F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F8528B-F80D-4A40-B7F3-8D167079504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E4E13D-72FB-4931-A685-A6DC4B38BE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D1AFAD-FA0C-4BA5-92EA-8D7F85AB30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111F98-02BF-4044-8277-367329920A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23499-C7FA-4EDF-ACF2-6CBFCE0CB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7A76B6-3648-405C-BB1A-8A5365BCDC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8CA05A-437F-436A-A96A-01EDB741B8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2168B5-52D3-4B07-B8E7-FBE523C84D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E1838D-9101-4034-9ED6-8D5E1C9FDE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7BDA49-1562-4E50-B523-8FCD5736E5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8BBC60-C51F-4FE5-B579-B29C3718813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ABAE94-4AE9-4ACA-83B5-0508745EFBD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B4DF8BE-63A8-415D-B0BD-EC800EAC3F2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C8631C6-2EC8-487D-871E-872C438D5E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E839A1-6F90-44E9-B035-38C9FE95C2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0D9A-B5F5-4F77-803F-86A6CC96E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137904-ABFA-42F9-AB22-4E87D5546F1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58ABB7-6DE4-41DD-A917-E8CCC1D7DD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ABFB26-29AA-4989-B3B5-CB5BF4DC46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92022D-D050-4F62-8717-8BED8657C0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0D3C9D-FDEC-445F-ADD3-B33DAAD83D2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672979E-F0AC-4D15-8172-53CAE0BCEF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CECD22-D9EA-4B66-991A-A2A833E3A5C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245EDA-42D5-406D-8A13-2667CDAA136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42CB998-2EC1-470C-B028-55404A3D7C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7ABC436-1A65-4026-A78F-55F50DE8687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717F9-5904-4295-ADDD-6E2007ADF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BC9DE2A-863F-4AE2-9E0D-CFA8FA0474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AA3E2A2-8E10-4725-B5C2-0D9779F462F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79C075-83FC-443F-8A25-74D194F805B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C61A6A6-4C5A-4951-B67F-9C903E11B3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53233F-1A16-4711-B5DB-7C697A0100F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850948-4E3D-4F26-8EBB-9614DF94AD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6C7D129-6AF8-4747-8511-966DC93743D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0DB8EA6-E798-456B-A68F-14EBB484AC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F22A34D-EF37-48DB-8E7A-056D4D3965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47A5157-CD32-486D-96D6-77D8DD17F82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51FBB-673F-42EA-A6B1-865D64A73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AED5A44-AE0A-4222-8CAD-3063CE9919C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482F467-1C71-4569-BA2A-644D50A0507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5985F3-9631-427D-8F52-89AD6E286B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B4E5421-BE78-4D03-ACBA-53479C619C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2EC83E2-53C3-4F52-9D3D-69558C9E23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C28675E-0E4D-4492-A6A0-5BA449FAFB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206EE79-36CA-49A1-B210-501059EFDA7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14784A-8F66-4E59-95E4-F7D6844C2B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1E0E04-E6ED-406C-A92C-6FBDCAB4C7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F91A58-9A3B-40B5-AF4D-75906950F1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98099-34CB-48A3-BE4D-31DA71404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37E9806-960A-4F5A-BE01-5EA03EEED43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FEFC246-A147-4254-ADD9-C6D8F39345C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BBA5467-61D9-4730-BE96-24BC82FC135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6F4724D-8B27-400D-B270-AC76592718F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BA3923-2DCD-4A9C-AF57-33C0AAC63C9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44B586B-6095-4412-89E2-6696672CEBE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A0F6C8B-AB86-466B-8583-0A07652D5BE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D2222D0-0ED8-4ADB-AE7E-6898081E3C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85B32FE-0177-4A81-9A3D-C6F29CB9572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2B6517-38E6-4373-91D1-24552393F89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C26D4-5BBC-4DC3-9B5D-02475FDA7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ACD9F19-4EBD-490A-B365-9DB7383092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6C523BE-778B-48D2-8032-F2BE64FC2E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60F7DDB-9968-468F-825A-EA81A7953DA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6B62617-C8BD-4EE1-9136-F8AB90CE2C5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CEEAEB4-4CF9-4008-B518-FB0ED878A64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FB060B5-9A36-435F-B4C5-A180795B0BD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B4D56F1-112F-4742-93CE-05B43C9D5DC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510FC3-1667-45AF-AE57-089360E0BCE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59F4E9C-AA14-4E91-BFE3-3BDA120F324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248EF50-4755-4D8F-8045-DB122471C3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BF892-C535-4F6B-ACF5-E6476E0E3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1D0E6C1-B5A0-4832-8075-8FCC2285F3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92A19C-FCCB-441D-8425-B31D50AD1FD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C56151C-3EE8-4C25-BD92-3980CF415AF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913F7B9-0CA4-4170-A878-22C72E229F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324FECE-3794-4BFB-AAEB-E104178E1FB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F0036BA-5741-4E00-BE09-82191606554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50FAF48-00F6-443B-B4B8-B9440BCE4BE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91C11CF-EE18-467C-A835-A3C36383AE9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E798062-6DFF-4BC4-A5C1-2FA75C377A0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562C217-2DE8-496C-A96E-BD3EE71D42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FD25D5-A0AD-4EA2-911D-9B7BBE3F2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4FC07F1-3EAE-4538-9FAC-6355760F054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B955F3D-C868-400F-8F14-BDB22226016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80C1B63-42F2-44DC-97B1-52FC06013D1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2FE52A-B8C9-4133-85BC-8970DC0284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3ED9179-A859-4CE3-A046-E002230BA75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F8A4C6-9661-4E61-9675-9955FDF288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AEBFAED-6BE3-4B2B-ACE9-84A9750C897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352D1C7-F27D-482C-8191-358699C37CD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B8C8263-6586-4083-8EDF-08B9529CA33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C65B386-C979-4A15-B4C5-C7F3AF0CAE8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3A1A9-CCAA-489B-97D4-BE71021C9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3CA543F-E907-4AED-9AE3-1402EBF3726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919D61B-4384-47FE-BB18-7D16CAF80BD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38EB86B-EF5B-45BF-B7C4-BD822AB494F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9EB6AD9-0E2C-4CD6-9C51-F2CD634BCB6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B0EB5F3-0E86-40F3-92C0-E495D52DFB4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516F816-531B-490B-9C06-80B041709C2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D1888A-8B61-4EB0-A5DD-C5A91225CD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5BF465-9DEA-4DAB-8D23-23074D30917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1699F15-04EE-46A0-AD85-6731691F1DA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28A9E10-864B-43B0-BA08-6B053C82DA2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53D36-0238-4E8A-BDBA-8766EFCF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0EFAE-EDFA-4BA4-B3A3-47EE72251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64A74DC-060C-4FA0-A552-CE63937FAAB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A946509-D9BD-4346-9DD6-948F8625517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DA46F8-66DE-41C5-94AC-775169D542B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B1F6DC7-D8BD-4B4A-9E63-9B4B9C8FC4F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D9847A5-0DE8-436A-920C-803167CFBBC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78AE258-314F-49A7-BE31-E3F7364EB1A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2F59DFB-04F2-4923-8CC7-6C691CF50AD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FC27740-1E59-4FE2-8B7A-79308418F31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27AA12F-DCD7-4300-8C39-CD0E7FEAF6E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0B6607-7832-45C1-9823-FF0AFD0D8C6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E5C53-5CC1-4511-BB6A-8D8A6E676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B74CB2-39D7-4363-A876-A42DE7798B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E9465A7-3AAF-4944-8EF0-B8AAD2EF4B4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CB5F593-100E-41C3-BFE4-C17C0C864DC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2EC66-AD31-4C8B-9BAB-9423F834B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E640A-2BCA-4096-AC7A-B50745136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11892-C0BC-4304-BFF6-93A1CF71A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30364B-54F3-40DB-8280-42C4B4D042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63425-879D-42FF-BAFE-827EAE36C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47B6EC-EDAA-419F-A60A-2E411345A3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19837-0496-46EC-A14B-96B6456FF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CF987-C72F-4D22-8630-F568E0549A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64103-4E01-46FA-B94C-60267845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B7B1B-5BFC-4764-A8DA-24132B3BB6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AF594-9B65-4F57-83EA-2912040D1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42C8B-C0C2-43A8-A190-81155099C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038DA-473B-4F1C-98F4-C17C15115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1B1A8-E110-461C-8574-090E78A8B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134F4-57C1-4DF1-87A9-8DEF556D9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54750-FA57-433F-BCEE-0D7C795E1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C8D653-D6D4-4567-8C75-FC420775FB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7EE2B6-20FE-488D-8481-824F2E8457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A1BF4A-8CB5-4007-B140-39623C2AB1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CE262-0C83-4C09-9032-29A34755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C5DC4-4A36-43EB-A9D4-E02C147E3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017D0-E5AA-4084-832F-F11027BCA7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87AE4-E6B1-4F9F-95DA-C0400402F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59CB1-94D3-495C-BD17-85C392753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EC5F62-E013-4D0B-B2CF-5B9F844D7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EB584-8F0B-4E12-A863-45EE19F0C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69EE6-0DD2-48AD-8EB2-7E77E2C57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9D59D-EB26-4029-A7F5-3422CC123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3EA7CB-41F1-49DD-BA46-CB68F186C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7AABAA-89F1-49CC-8224-1AF630CD12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813F-3582-47A0-B4C6-04050F405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5BFEA-589F-4CF0-A322-33DBE80465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2067BA-5B73-44D0-9C7D-269150614F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6E25B-6B06-4CF9-881A-C2C723EF0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55A54-9C10-44A2-849B-C341B8786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62191-ECF9-44DF-AEDA-849E2C884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CD898-1D1C-42AB-98B0-8EBDB5ED5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F86C0-D39C-4827-86E2-6E301E3B5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4BC80-111D-4872-8C3A-BEB9B5136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2F8B2-EB1C-4552-A04C-4B1B2814F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87D71-C0A0-40C5-9D1D-EAADDB8F5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4423-7A0E-4B2B-9D9B-C23A082C3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325C1-B707-4E35-9A8C-417AEA3C2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8193DE-F53E-43F5-A910-FC91EBA6A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53A8D5-5515-4D87-BBEB-1058454FDD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7016A2-EBE5-45EC-A3BE-B3DBBC1DC2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C3E70-C179-46C4-9282-6EC8A2FF5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FB96C1-AF54-4FA6-8BBA-BBE382C72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FD095-860C-4D8C-A3C1-AA17ED7CB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02C49-D5A8-4690-A242-87B742806E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8FE2C-EA8C-4E9C-9B29-9B3251AC30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5AE1C-8808-409D-8AA2-579E32FE3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6F87-5F44-49A9-BF15-1F19728B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E7C0C-A3F3-4D2D-90F5-C09378074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6DC5E-0E69-4771-8D60-B9F582B74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0999D-DA36-4C64-A1DA-49D2F1B98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898534-E843-4A4C-B68E-E894DB841D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405C58-8AAE-48DF-9C09-37592ADD17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B67837-CFA5-4CB9-9E1D-04E8304B66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0F27D-11EB-4FAB-8C15-FA61DE8423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C07540-B8A0-4B42-8998-FDA55FBE18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041351-6202-4445-BCD0-51386DCE9D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A194B9-3F39-40EE-B5D8-AF78422143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F5CB-C185-47A7-A41F-7143F861D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048807-C999-4032-AEB2-4231FBECD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316013-29E3-41B9-BF0B-D6735683D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31C6C-1A9E-49C3-8F21-10E392CEB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2C68E-8D28-4E90-914D-C8FD511E2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050870-3207-4311-8710-467251E47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C916CD-FD45-4B04-99AA-B8FA232D4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364E41-32B8-429A-813B-984ECC489E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69BAFF-17FB-48E8-9618-878A307134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9B9C5-114E-4766-8B25-ADD08000F6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A63846-C71B-468F-8056-EAB9F591FD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1656-36ED-4314-AEC5-44D7FC8A02B2}"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DF66-6107-4D0C-942B-452F119A94D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15BF-1BB7-480C-AA8B-EB6C9E969E13}"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853C-541C-4820-8D1C-C1DF9C6AF682}"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6FC6-711C-4E4B-97FF-0E3F236E91F4}"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F9DC-AFD7-442B-8E72-8F10A8CFC8D2}"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5EA6-9995-4765-9C2D-5A0F6AE90329}"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B08E-11CF-49BE-9BC0-924AD8DF2999}"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1374-E054-4DCE-A539-40D5CA7CD3CB}"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661D-6954-46F3-BB1D-3CA3C5E4684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49BA-7808-4039-B5EB-768241F97A6D}"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9E5E-531F-4A2A-BD50-C67B14E45C7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491C-96D8-4ADE-AA57-9AB3641632E8}"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8F7E-58C6-4350-974F-BE4258D32F66}"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56F8-7628-4FEB-BAD4-7B7B117D9D94}"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335D-106B-4FF3-ABAB-AE076C66C8CB}"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54D1-94E4-4AA9-95C7-110F901EF3EE}"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6437-A5A1-4C9F-B385-949938DE7A91}"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886A-79BC-4575-8B73-301F0F145C5E}"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11B3-2BD8-48DD-87E6-6EC5DC50640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DAA0-58C4-4DFE-9F0B-99E481446E7C}"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CD5C-8F33-4BD7-8F82-ECDD3A0EFF83}"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0105-4AEA-4DD4-B7BF-98E2A90B1D50}"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E05F-2B88-48DF-BBFE-45A9944E5561}"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3239-0C96-4104-8B2F-A23D51315971}"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536C-7108-4812-A1FD-ECD1622ECBD9}"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E9D5-C718-473D-86BE-6588BFC878DF}"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FBE5-47A8-489E-897F-181E6DA93E31}"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96AA-4621-40C2-862C-0AF4C9637C89}"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A80E-8B1A-4078-9855-296F527F01A3}"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BFB9-3B58-4CA9-9D6C-B4C7F48218AC}"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331F-3978-4BB2-A636-B18F7FBE0BB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2488-820F-4061-A265-558BE70967AA}"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8CF9-C58E-424D-8371-ED9A81E304F9}"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6424-D6F1-4369-81CC-E33A9818BE41}" type="datetime">
              <a:rPr b="0" lang="tr-TR" sz="1200" spc="-1" strike="noStrike">
                <a:solidFill>
                  <a:srgbClr val="898989"/>
                </a:solidFill>
                <a:latin typeface="Calibri"/>
                <a:ea typeface="Arial"/>
              </a:rPr>
              <a:t>30.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D861-9D7D-4289-BAF9-FFBF75E7CB38}"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922B-C7F0-44CF-9C92-9CC195F62239}"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17BB-C971-44C2-81A4-6CB4B340B89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A289-1A50-4018-B2BC-C0FCEAE759FF}"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25FB-7B1C-4017-A786-E5A27F7FD44D}"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0611-1F36-4376-AC89-5B5F8BACC028}"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364D-CD2F-48C7-A765-DB5D08C42BE3}"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9C06-7848-41D5-B137-EBD8A013229D}"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296F-A039-4FD2-8B05-4F02B2C209EA}"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9ADB-A1FF-4537-BB7A-757409C26123}"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2D7B-D521-446C-A027-369952903928}"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496E-D5B3-4A81-B4EE-C85AACE60ECD}"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4D95-3F9B-4D3B-B7FD-2778B92B4C93}"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E937-F4CA-42F3-AF14-9582DDEC20C3}" type="datetime">
              <a:rPr b="0" lang="tr-TR" sz="1200" spc="-1" strike="noStrike">
                <a:solidFill>
                  <a:srgbClr val="898989"/>
                </a:solidFill>
                <a:latin typeface="Times New Roman"/>
                <a:ea typeface="Arial"/>
              </a:rPr>
              <a:t>30.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6941-025B-4F99-9193-D8ED730D7870}"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D81E-C3E0-47E8-9D11-70B626098147}"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392F-0808-4026-A640-417FAF47FFC3}"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F94D-DF50-4CD2-B3A3-8635922CFC04}"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ED97-814F-4E4D-9240-379A2A65A8E3}"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6B50-18AD-485C-AA5B-FE72588D2CC3}"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7AA1-8479-461C-B02F-EE1635A0E6AC}"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4B56-F80B-4A86-B79A-272A5887DB29}"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CB92-58DA-40F3-B040-03D5D0052B79}"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